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8F48B-6AC2-47A5-81C0-EAF6D9A0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1BE7-4B05-433A-87DC-9CBB572D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15770-0ED3-4091-990E-A00CD0F2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1C1B-7214-468C-BBDA-3918CFDC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121E-368C-49BE-9DF7-8B8F5594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9068-6E12-4565-B993-4C427BFF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1EA3-D67D-42CF-BA61-200EC14B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DE58-3187-4DC3-A010-6CFACA14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96A6-F110-49A0-B8C9-026BEEB4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62DE-F0EE-49F6-A2B0-2BB0F69D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227D-25C0-4C62-976A-1D7EBA70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AD73-DDF6-4BEB-940C-3F1533E6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3A2C-62DA-470F-8D20-65044E45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0295-FF7C-4D3C-8542-307A3203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24B9-A752-43F1-8ADD-6EBB3D51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97DE-C891-444B-85EA-1261BA0D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2343-DB22-4795-9F58-C58C6A47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FC96-5233-4BB3-9C96-8861A7CA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D6C0-D79F-4E46-A841-A5D1EC19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6DEE-0848-4F31-ACEF-424D13BC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1A30-4B33-47E1-9D57-E81FDD3C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A661-7B82-4E7A-A502-A68F8D70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268A-375B-461B-AD7C-B6AECB9E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CF8D5-2049-4473-B7CA-6E502FCA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B074-5551-4357-82E4-BC2B62D30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354B-D2E2-4A1D-AC5E-F17953DCB0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l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challenge you with random cip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Games men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structions on the scre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game help 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explain the details o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ing against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191120" y="1676520"/>
            <a:ext cx="464796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2589-5721-4107-A1C6-02AF3B861A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run standardized randomness tests against binary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828800" y="2895480"/>
            <a:ext cx="68580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0AAE-9AF4-4481-B063-254170029A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provides a tool for long integer 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733920" y="2666880"/>
            <a:ext cx="377964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1467-74F6-4EEC-B523-482F04E164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can monitor your code breaking activities and provide a record of your use of 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help you avoid redo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35467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852A-045B-4E78-8A29-A5695322EA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is Bar offers tools than may prove useful in breaking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136368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3BE02-8427-4C87-BBAD-33DAE8AFA9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is a general purpose tool for the study of classical (and some contemporary) ciph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is really three related programs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that will encrypt and decrypt text using your choice of several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tools for breaking unknown cip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me which will generate random ciphers and challenge you to break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" y="5867280"/>
            <a:ext cx="74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his presentation will introduce you to the general features of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F25A-4A8C-41E2-BBBB-5C53B1A882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items below to jump to help on the specific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just continue to advance through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276720"/>
            <a:ext cx="2333880" cy="542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3886200"/>
            <a:ext cx="2343240" cy="51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4457880"/>
            <a:ext cx="2390760" cy="49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7086600" y="44197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3657600" y="5638680"/>
            <a:ext cx="2362320" cy="4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609480" y="6172200"/>
            <a:ext cx="231480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3657600" y="3276720"/>
            <a:ext cx="237168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657600" y="4419720"/>
            <a:ext cx="2343240" cy="52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3657600" y="3886200"/>
            <a:ext cx="231444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3581280" y="5029200"/>
            <a:ext cx="2571840" cy="542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609480" y="5029200"/>
            <a:ext cx="2333880" cy="514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533520" y="5562720"/>
            <a:ext cx="257148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92C3-398E-48D5-9C6A-C4890DBD05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8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first open CAP this is the main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5257800" cy="45957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7086600" y="2286000"/>
            <a:ext cx="1219320" cy="762120"/>
            <a:chOff x="7086600" y="2286000"/>
            <a:chExt cx="1219320" cy="762120"/>
          </a:xfrm>
        </p:grpSpPr>
        <p:sp>
          <p:nvSpPr>
            <p:cNvPr id="134" name=""/>
            <p:cNvSpPr/>
            <p:nvPr/>
          </p:nvSpPr>
          <p:spPr>
            <a:xfrm>
              <a:off x="7086600" y="22860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4360" y="2286000"/>
              <a:ext cx="113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12440" y="3886200"/>
            <a:ext cx="1310040" cy="762120"/>
            <a:chOff x="7012440" y="3886200"/>
            <a:chExt cx="1310040" cy="762120"/>
          </a:xfrm>
        </p:grpSpPr>
        <p:sp>
          <p:nvSpPr>
            <p:cNvPr id="137" name=""/>
            <p:cNvSpPr/>
            <p:nvPr/>
          </p:nvSpPr>
          <p:spPr>
            <a:xfrm>
              <a:off x="7022880" y="38862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2440" y="38862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Cipher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C44FA-C10D-4216-8E23-FB3C498D80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men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441468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191120" y="1981080"/>
            <a:ext cx="990360" cy="533520"/>
            <a:chOff x="4191120" y="1981080"/>
            <a:chExt cx="990360" cy="533520"/>
          </a:xfrm>
        </p:grpSpPr>
        <p:sp>
          <p:nvSpPr>
            <p:cNvPr id="146" name=""/>
            <p:cNvSpPr/>
            <p:nvPr/>
          </p:nvSpPr>
          <p:spPr>
            <a:xfrm>
              <a:off x="4191120" y="1981080"/>
              <a:ext cx="990360" cy="533520"/>
            </a:xfrm>
            <a:prstGeom prst="wedgeRoundRectCallout">
              <a:avLst>
                <a:gd name="adj1" fmla="val -43268"/>
                <a:gd name="adj2" fmla="val 78569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2560" y="1981080"/>
              <a:ext cx="94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onver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ASC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5520" y="2819520"/>
            <a:ext cx="4340160" cy="3200400"/>
            <a:chOff x="155520" y="2819520"/>
            <a:chExt cx="4340160" cy="3200400"/>
          </a:xfrm>
        </p:grpSpPr>
        <p:sp>
          <p:nvSpPr>
            <p:cNvPr id="149" name=""/>
            <p:cNvSpPr/>
            <p:nvPr/>
          </p:nvSpPr>
          <p:spPr>
            <a:xfrm>
              <a:off x="3962520" y="2819520"/>
              <a:ext cx="53316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2133720" y="3200400"/>
              <a:ext cx="15778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55520" y="3505320"/>
              <a:ext cx="196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rting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s is usefu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 variety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ph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A2FA-8938-470C-A332-B4BFA3473C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 m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0384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351F-7497-46FB-AB3F-6DB109F91F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is the process of separating the ciphertext into segments of fixed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it easier to read without giving away standard word sp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2390760" cy="3324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34320" y="434016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Block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87840" y="2971800"/>
            <a:ext cx="3588480" cy="1521000"/>
            <a:chOff x="987840" y="2971800"/>
            <a:chExt cx="3588480" cy="1521000"/>
          </a:xfrm>
        </p:grpSpPr>
        <p:sp>
          <p:nvSpPr>
            <p:cNvPr id="162" name=""/>
            <p:cNvSpPr/>
            <p:nvPr/>
          </p:nvSpPr>
          <p:spPr>
            <a:xfrm>
              <a:off x="1197000" y="3407040"/>
              <a:ext cx="31428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7840" y="297180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out spa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7440" y="3505320"/>
              <a:ext cx="28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klttekwpov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tnbzyqacee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77840" y="4654440"/>
            <a:ext cx="3429000" cy="1521000"/>
            <a:chOff x="1077840" y="4654440"/>
            <a:chExt cx="3429000" cy="1521000"/>
          </a:xfrm>
        </p:grpSpPr>
        <p:sp>
          <p:nvSpPr>
            <p:cNvPr id="166" name=""/>
            <p:cNvSpPr/>
            <p:nvPr/>
          </p:nvSpPr>
          <p:spPr>
            <a:xfrm>
              <a:off x="1077840" y="5089680"/>
              <a:ext cx="34290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97640" y="465444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 blo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4040" y="5187960"/>
              <a:ext cx="311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 kltte kwpov 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 tnbzy qacee 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248E-4B3C-4B18-B893-F7F0528D8F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s Menu lists all the possible algorithms which CAP is capable of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are being added all th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mplement a cipher, click 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name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2827440" cy="4648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2240" y="4267080"/>
            <a:ext cx="40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Help on each cip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from the main help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rom the help feature of ea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ci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4D8F-C5C2-4879-A183-09FA5F6CA3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solv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olve is not active at this tim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0D17-64AA-4723-B96D-8CB503691D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2T00:45:37Z</dcterms:modified>
  <cp:revision>23</cp:revision>
  <dc:subject/>
  <dc:title>CAP Cryptographic Analysis Program</dc:title>
</cp:coreProperties>
</file>